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717D-FDC0-4175-A534-C23A69D5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EA3B-411F-4C3F-9316-24C633D7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4049D-489B-47F4-9F41-3A46B0A4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A5A4A-B91B-4DFC-B3F3-8B6DA143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DA1FA-076C-4C48-A433-A88382DF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84F39-1D96-4A38-9785-DEFA9AD3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645F0-2743-4CD8-8FAC-FBBB0799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6B931-2CB8-466E-B63F-AD99273B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3BACE-825E-4072-A14E-C271D492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D8FFF9-DFBE-4E41-9F4A-0694F1614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8588C8-7327-43E9-B313-9F0DBE16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5B606-4277-4B12-9EB3-E1BD08C3E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28C0-5ECC-4E36-A448-E8ED85FE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D10B32-6E2C-4C6D-8EDD-300C75B9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51839-DADB-47A0-9464-44FD73D6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DAAC3-2839-4651-AEB8-0DDBDE21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4D228A-E6A2-45A7-AFFE-4C8B2D70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151E4-48A7-44B1-B28B-720E1C9F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0E9FF1-ACAE-449C-AFD6-E2AD1863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BE4F5-737F-4119-8EC7-D0FDFF8B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E1CDBD-3268-448E-9BF3-27B089D3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DEC35-5FE0-49E5-9B95-A9B992D5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B2FE7C-01FA-4B96-89DA-010799364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1574-E9BF-423D-9BAA-E5659673F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ABFD7-D35E-4923-8BF4-CF1DCB5E8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BDE63-7954-44E8-B0EF-E55536EAE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9E185-4C74-4B7E-83F7-4D44131E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F6A36-16D1-4227-A240-1B3EAEB5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5AAA8-439E-44D6-88A7-95ADCC6C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2F326-E435-4D9D-8C35-61B918DD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3914E-C9A7-4B98-B1DC-35C95C15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FE0E8-958A-4828-B715-7D623F81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5BCE6-AB60-4909-8A9B-E186AD9E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222EE-E302-4333-BD8A-237FA53C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C307-6286-45D0-BFD7-DFB49F805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D7B84-D4B7-45E6-9ADF-00CE7595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3C969-161F-4FB8-BF5C-250E7FA67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D5FB2-6E20-431A-86C7-F10FAAF15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1FDF0F-7786-426B-8FD2-54D569215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1D41FD-627E-487C-BC2A-A65917E5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6DAB10-25CD-49D5-ACA2-0541B8A7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55C5BE-D1AA-44AA-B663-8FA622B7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202504-ACB8-481A-B181-1F25D938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7BD918-31A2-4021-9423-C9A8E87A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23C8F4-54A0-4C41-8A59-BDAE1EC8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699A-A225-46AF-9DC0-8F70E7C2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E80DB4-A661-416C-B407-CE9CB270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D6566C-9DFE-454D-A32D-F0B66533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7087D-8CD1-43AB-8D79-EA7D95EB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015016-C1AF-47B5-A5E4-B50AE11C2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B36CF7-A9DD-4FD5-9E6C-485D8E692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77ECC0-ABD4-4A28-9549-8FD608D76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226BDF-B132-4F98-8FE4-41B2F530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62755D-3B3D-4964-88FB-16680BCD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5719AB-36FA-41FA-90F7-27A2B174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BAF590-976C-4140-BB9D-E8C5D344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7FC4-6D1B-4DC8-BF6D-2E1E737A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B599A2-75B5-4352-9CB2-76477DC9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53960B-DD30-4837-A119-FC2FA71C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EB103C-61E4-4638-837E-2A2E4609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376C81-637A-4FC9-BAEC-8E323D95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AAA937-501B-4E21-9E22-B2A14F61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50F6F4-E574-4923-8399-34127297C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93AFA8-C931-4EC3-8B5B-EFE40AFA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8016DD-05F4-4C90-A1C7-7CD61988D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1995BB-213F-4530-8E86-8F85C63A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A75EC4-74E2-4111-83AF-51203A16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68D1-F4C2-4F2A-BD0F-179AC8B3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2F52D6-EA45-4A34-A20D-4B98618E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453FAA-6056-457F-A8F2-58D66AF7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AD4614-CA46-45D2-8FA1-3DF68566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781105-1914-47EE-B83E-ED2E2CEA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DCCD09-3596-43B3-AA17-298FA894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A2BF53-2BFA-4BBA-866B-7CBDB429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95B570-6395-4B7E-93B6-D5A47802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3BA8A0-39CD-42C7-A15F-3D6674C2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DEFCBA-A3D5-4A43-82E9-0BBADBA8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AF4125-9DA0-4EF1-8120-C9F63EFC7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1AEF-C035-4FAF-9196-0EB2E1F3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27050F-F769-47C2-9191-C4BA6AED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29E2DB-71A9-4348-8E57-6D4845C8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91C650-60A5-47A5-A93C-53BBB1F8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C13CF7-E14C-47AC-B9D1-D7016EBC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7137F5-D6BE-44BA-966C-6260193C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4267FE-33C1-4F49-9389-0E7FE947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3C7E68-4146-46FE-BCAD-357C6A9F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6BDC36-4269-4BB5-B895-F00B2AD1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CC39F5-6343-477C-823F-EF19C6C1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E481D4-FF3C-43A4-9EB0-7225F7B43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54B7-6DD6-49D6-A7E1-225CBBF3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F3A2B8-0E67-4693-BD31-809690CC6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B09751-0D19-48D5-BD7D-BFCDBAC8D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6C42F2-0FDC-44DC-8D3E-E455AB35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2C71C8-4F31-421B-94EA-8D5EC239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8D0DD0-C2DA-46BA-814C-DE66943B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183402-F9C4-4417-9D39-9C42A21B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E48A64-BFD0-4DA7-830F-6BD72B9D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999550-7326-4A76-B283-10E30522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7450D8-6CFD-49EE-A69A-AC67481B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920C28-9422-4375-A058-C9089991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B8D1-6172-4B47-BB6E-BC47CCCD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353672-A773-4463-A948-394497DE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D041CE-6646-451D-9664-A11C1461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83E056-1CDC-4C97-A6FE-DB3408D9E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296331-2FAD-44D5-8BBF-1D88663A2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34F19B-7BE8-44BB-9009-3F792080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DF8194-BB59-4AA8-A9EA-2CDA994D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3DCD2C-8C51-493D-9600-2A99080B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E83778-5894-43E8-B064-04B2F270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15F3DA-4578-42C8-AEF1-5F5B7BF7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FDAEC5-474D-4692-A89C-E7FFAD45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E275-DF0D-4B77-B973-D6458913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F289-5D16-43F0-BBB8-C46767BE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D97516-2A50-4B1C-BCBE-B27D7153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42EEF8-0673-4D8C-AD96-32EFBCC7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8D0F78-5197-464B-AC8C-8ADBA6AD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6161A3-7B34-44F7-9794-60CE0B50B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2E2EE0-46C8-4468-AFB5-6BBEB8FC5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05D2E2-EF58-431E-AFA6-85E04EB80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C14A20-44D2-4069-BB86-2B6B2D95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A63893-0473-49BC-B3A7-8850C7C4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09845F-4635-4AC3-8586-2A8D8B08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DBE146-2523-4126-8B6F-6446A809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3344-F05D-4920-8D7B-D57BA959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6DE4DD-1460-45A8-86CC-CC1EA85C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5164C1-61E0-4DC8-ACC4-9E4B2BD1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93751B-D0A4-469C-A399-9AFD08EE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28798F-32D9-4F3C-9380-B010F6FB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1F769D-EFAC-4D1F-8AE7-AB991B8E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C859E2-1531-4037-B20C-D65F0EC5F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8FFBC8-20BF-4D59-BEA2-5CBF07702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D4232C-B5E4-4B7A-9FCB-751CC8A35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91F4CC-3A3A-4DC8-8097-350EF2F0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C0AB85-4247-4205-9F0D-24EC87E4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62A0-F511-4F0E-818A-3436A340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666758-C0F6-41FD-8FBF-645F4764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6BE6E5-FA6C-41F3-9EEA-3028526B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493D62-9DDF-4BAE-8C9D-AAB0EBB2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399B05-EBC9-42BA-9F36-E34A1597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BABA5E-DB1A-4F61-99CC-AA75B1E0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0EAAFB-846E-4A02-B3DB-4352A0A8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2FCE25-E2AB-4CAD-932A-6E798284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7EBACF-E410-49E7-8892-D566AF50B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38CC74-4A9D-46B7-90A8-FC9C090EE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D27FE5-E858-4789-9DC2-DE4FF8377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46C1-B235-4838-BF92-07BC010FF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028DB2-0731-4AC8-B135-CD503F1C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145414-E779-4662-8FD0-FC889AC8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2E240E-DFAD-48A6-9F50-C43A3622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F46383-F8EB-4BC4-8296-1C3BBE87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FF8591-3763-4A86-AC4C-41B127D2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5043E9-279F-440C-8023-DED6A7F2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126571-5777-46BD-B21C-108F139E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B81A8A-7012-4612-8610-77B15735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90A659-E72C-4707-8D43-4922DD45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A2D109-6E4C-46A0-8C74-CF3D37514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6C61-AA77-4717-A3DB-23EA237DB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49C00F-C38B-40A7-AAF5-FC8E666BD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9271C0-65D2-47FD-A796-90E7A8F6E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FD8826-D7EE-4708-BF35-CC683C0D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71E26D-5221-4B49-BDAB-45C811FC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938CCF-1A0F-41CA-8A6E-171BD910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227476-07EA-4205-821F-1CDF6E89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B4D32A-8D9A-44DE-B72F-A7543D52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3FAAC0-60D1-4BBA-8ED2-3CDF8C45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A87B12-0E29-4B82-9A14-838394BB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48076D-C680-4441-9B07-91F35653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10383-EC73-4743-89DB-D81C95523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684EF0-EEB1-4B8D-916B-74130C9B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6D96B9-AD53-4E5C-ABB0-402C93AFF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1DA330-A4A3-4A80-A1F5-79603900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8A35E1-6366-41E6-90FB-08BDDAA20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AE2AF2-8E21-4212-931A-50713B90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5D5C3F-410B-497E-9218-62C58B72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634458-7E38-45F2-B9EC-FD9ED306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7C1E7C-E30F-487A-B8E6-5DC4BA27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8DB56F-3E67-433F-8A4B-C3A3D26A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BFB621-6231-47EC-9B30-DC2A2511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42004-74DC-4E68-A2DC-140B7FCF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9A6D8E-4312-4BD5-8980-039015ED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D89A11-D25C-4897-907C-68EBD56D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F69957-AFDA-47F9-98FB-6317BAB8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FC24DB-AA6C-44D2-A502-513ACBE2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0B6713-5663-4C2B-BFCE-BDBF41AFA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FD3474-5768-42E4-BE21-3486CAE11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A3A8F5-0ABB-4E77-8418-1BE16C2A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5D4743-65AF-4E9C-80F8-8ED0FE52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77C9B9-12A0-46ED-A6E6-682A0484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A1B762-F62F-4F91-B787-CA85E719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32274-B222-43C8-99E5-69BE18E6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FEE295-09DE-4A4C-B724-FB1427F2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0C162F-8147-4C08-BF2E-870A07A3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44067E-EBDE-45B9-9EDD-32931D9F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49D335-85C7-473C-A12B-5CFB9C93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743E95-DE9B-43E2-A4B8-EA6CED2E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21D91C-BCE9-4EB9-AC09-B9450E51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F2DA82-53C7-4FDB-936A-489B6C091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33E56-5226-418B-BF63-D937BE8C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C1AD0-6359-46BB-B627-F894C27F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047D-BD03-42B2-84AD-30059B55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5F567-C76E-4D09-81FF-031545D1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C0F37-1A8F-45C8-9113-7E1993C5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6F846-05C3-455F-96E6-0FB38DD5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8A0D7-B901-4A6B-AC1F-EB0F27A7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CA7BA-5E27-4D7E-90D1-0C30B371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0081C-8BA7-49ED-A6C4-A38AA91D4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E3CCA-1C3B-4C3B-9229-57D4662DC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72293-98DA-4F96-BCA9-3C802F8ED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2038D-C065-4222-9727-1D3CE6E9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900F6-F229-4F5E-ACF8-DC4D93AA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375D-628F-4122-8131-EB4C62E5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F877E-BBFC-4919-8EA2-251B07FB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2D5C8-010F-4AA2-8AB2-BD48AB3C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496C6-FEF6-4C88-962B-58E41A40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97F47-98E0-4FF8-AE50-9EC5FB5B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F51FD-CB6F-4AF2-8B42-14AF1A9E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5D3FE-8DD9-4539-8FA1-32DE0483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53C48-9E0A-48EC-B171-6323E3B0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1451D-7AA9-4AE2-AEC5-E2768A87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19ABB-34B9-4BBE-8AAE-7A1EC9E8B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34027-DF01-46BD-B856-CF7F86C87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483A-128F-490E-AA13-EA48B577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5A9FE-E177-4A90-A01E-EA5C1FEC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A2AFC-98C6-4C06-A732-250E1018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D3858-B5B8-4007-9260-84DCBE83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B3ACF-2F0A-4120-A9CF-8964D2B6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939DA-3DD7-4F5B-B035-6F45711C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EE410-0C5A-44E8-B505-755F7001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021C8-55B2-44D5-A328-588EBB93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97056-6997-4C17-AB4F-82410B6C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2FC4B-047D-4820-BDB8-917667BD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B0318-34F1-4438-815C-B04A8D2E7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0253-68B1-4F51-936D-ECC9FD23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3F683-C492-498B-9365-E55C47506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FE723-85B9-4329-8288-98A140A73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36F51-E165-435E-A726-AF4C34B2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ECB08-858F-4F5F-B25E-38271D32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D90CC-6FDF-4347-B1AF-4D6B468A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925C3-4F69-4626-9F4D-E6AF555C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D5294-E88D-4A06-A0A6-8D3414F4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5793E-C0DB-40D7-8AB8-C7950A50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FFAC5-BF6D-4F77-B796-E8A5A064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84069-D5E8-407C-BD81-0994E76C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6082-46F7-447E-B281-9AFC1A50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1A471-428C-432C-B6B9-68987C49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C1EBB-219D-4207-B3FA-9C18622F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8BD1A-251E-426F-B0B0-607BA886F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1BA57-4EA3-421F-BC13-2C5E03F04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F3BB4-CC57-4340-AD83-CC38B90D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7B1AF-5537-4A0B-9F5E-344D3C0A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BBCB3-89DF-4589-A6C4-685BA063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EEF26-664A-4426-A49C-89290C10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2AA75-8F33-4CFC-94C9-E6A4818D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6415C-BE46-447C-BB39-18BD9057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374F-95D1-486E-B8E6-4D0D044C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B21D2-AAE7-4E6D-89D1-8EAF63ED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78C17-0826-4F7B-B391-FEAFE7C5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7E5DA-E8E8-475B-BEF1-EC8EFF7C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03AC2-C788-499C-9C2E-027AE237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C40E3-DE5D-4A88-AA44-DB6630C84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D637B-9C2F-45C2-BCFD-09A5311DF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3D328-A3C1-4A4D-83B8-1A26E9C4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CB1A1-3782-4A5E-9516-301C2006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37743-353E-4B84-9746-F9EC8C08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4CD4F-37E9-47A4-9966-216874BF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8141-5117-44A1-822A-297AA900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B2350-3983-4090-86DC-CFA0C136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429D2-AEE3-4ABD-A115-11ED7C8F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8FDCF-C443-4085-BCD6-C115F3FF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E53EB-F083-4210-865B-4DC822AC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E1EF7-10DE-4B96-B1E6-BA45FEAF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50146-74F0-4C1C-9F1F-CE5BE1C20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6EA85-6DEA-4DB3-A680-11EB0D074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DB6D1-18E1-4F86-A172-CF1D5E9F8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144D4-01F6-4227-B68A-AC603281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7928D-83CD-4053-B188-3218AE20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E8E2-1108-4397-983E-63A6C6E5A1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9046-E3BF-4AF7-8441-D9E40FB8F3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A2A4-01DC-40B4-A68F-52C4467700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D120-6876-4C9F-B6F2-0F536D9CE3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CBE6-ACC6-4CEF-856D-7E8B670334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B778-7875-4120-A409-0F30434737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BCBC-096B-4126-B2D9-6FF93CF107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0DC8-9AE1-4EC5-A6FB-9DD7B6170B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3FEF-8B65-449E-92AC-6965014F3C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10E5-F7A5-4888-B8D0-90766778F9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8C93-140E-4FBA-A5C6-53D6F6647D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0E27-E4C8-4C72-8490-0E28D52847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CA28-5EFA-46B6-B041-CCE4A014C9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4869-E430-43AE-AD35-C7E7E026D2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5B61-1AFB-41DB-B931-6A5AB3D02B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CBDB-07FB-498C-8387-16FCE330A2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62C0-D693-40CE-94A2-36FCC7D7B1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4617-BAE3-4772-95B2-539CA6BE59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8142-9222-476B-B4F0-1132DE098C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AEAF-93C7-449D-A0F5-DF1448097F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56FD-877A-4DB7-BC49-1CA3228A8A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87BF-8ECB-4D40-9B74-D54B92D18C9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2516-BD76-40D4-A268-37ECAD0AAE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59C7-962E-4E8A-9901-C10F95BF69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3515-6448-4611-A4E6-D6E1BB7BE5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11AC-0674-4D23-A80E-CEE89FF619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B8B9-6BED-49ED-BA67-C151A3D904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3D65-B7C2-463E-B78B-32C49AF4FB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6786-1E2F-4020-AFC6-242DA21484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FD76-61AB-4578-87A9-0296AF6AAB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EC5D-8BD4-4499-8434-702E34794E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4F04-72A2-48A1-87D8-405DD99DA7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FCC3-A73D-497C-9A33-70887ED4A6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8376-0147-4EB8-9424-ED470F187A1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75A5-140E-475E-BCD7-BA7A027A26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2AC2-16C1-4833-BBC6-7F2C9751E4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2184-5DA8-4AC4-A06B-C5F931B894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16D0-66BB-4B40-8563-DB5E35D591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C978-1463-44AF-B915-F66D11839B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A567-0153-404B-A248-20F272D0C9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34F6-82A3-4C5F-9CB7-951B26A94A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1FFF-1D91-4393-9AAD-0BCB684F68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147600" y="2376360"/>
            <a:ext cx="884700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179280" y="728640"/>
            <a:ext cx="1676520" cy="314280"/>
          </a:xfrm>
          <a:prstGeom prst="rect">
            <a:avLst/>
          </a:prstGeom>
          <a:ln w="0">
            <a:noFill/>
          </a:ln>
        </p:spPr>
      </p:pic>
      <p:pic>
        <p:nvPicPr>
          <p:cNvPr id="1108" name="图片 2" descr=""/>
          <p:cNvPicPr/>
          <p:nvPr/>
        </p:nvPicPr>
        <p:blipFill>
          <a:blip r:embed="rId2"/>
          <a:stretch/>
        </p:blipFill>
        <p:spPr>
          <a:xfrm>
            <a:off x="82440" y="1042920"/>
            <a:ext cx="8980560" cy="343080"/>
          </a:xfrm>
          <a:prstGeom prst="rect">
            <a:avLst/>
          </a:prstGeom>
          <a:ln w="0">
            <a:noFill/>
          </a:ln>
        </p:spPr>
      </p:pic>
      <p:pic>
        <p:nvPicPr>
          <p:cNvPr id="1109" name="图片 3" descr=""/>
          <p:cNvPicPr/>
          <p:nvPr/>
        </p:nvPicPr>
        <p:blipFill>
          <a:blip r:embed="rId3"/>
          <a:stretch/>
        </p:blipFill>
        <p:spPr>
          <a:xfrm>
            <a:off x="1262160" y="1460520"/>
            <a:ext cx="6619680" cy="847800"/>
          </a:xfrm>
          <a:prstGeom prst="rect">
            <a:avLst/>
          </a:prstGeom>
          <a:ln w="0">
            <a:noFill/>
          </a:ln>
        </p:spPr>
      </p:pic>
      <p:pic>
        <p:nvPicPr>
          <p:cNvPr id="1110" name="图片 4" descr=""/>
          <p:cNvPicPr/>
          <p:nvPr/>
        </p:nvPicPr>
        <p:blipFill>
          <a:blip r:embed="rId4"/>
          <a:stretch/>
        </p:blipFill>
        <p:spPr>
          <a:xfrm>
            <a:off x="179280" y="2241720"/>
            <a:ext cx="7551720" cy="714240"/>
          </a:xfrm>
          <a:prstGeom prst="rect">
            <a:avLst/>
          </a:prstGeom>
          <a:ln w="0">
            <a:noFill/>
          </a:ln>
        </p:spPr>
      </p:pic>
      <p:pic>
        <p:nvPicPr>
          <p:cNvPr id="1111" name="图片 5" descr=""/>
          <p:cNvPicPr/>
          <p:nvPr/>
        </p:nvPicPr>
        <p:blipFill>
          <a:blip r:embed="rId5"/>
          <a:stretch/>
        </p:blipFill>
        <p:spPr>
          <a:xfrm>
            <a:off x="244440" y="3052800"/>
            <a:ext cx="8123400" cy="291312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6"/>
          <a:stretch/>
        </p:blipFill>
        <p:spPr>
          <a:xfrm>
            <a:off x="395280" y="112536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7"/>
          <a:stretch/>
        </p:blipFill>
        <p:spPr>
          <a:xfrm>
            <a:off x="468360" y="220500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8"/>
          <a:stretch/>
        </p:blipFill>
        <p:spPr>
          <a:xfrm>
            <a:off x="468360" y="306864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9"/>
          <a:stretch/>
        </p:blipFill>
        <p:spPr>
          <a:xfrm>
            <a:off x="539640" y="393372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10"/>
          <a:stretch/>
        </p:blipFill>
        <p:spPr>
          <a:xfrm>
            <a:off x="468360" y="5157720"/>
            <a:ext cx="36036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7" name="图片 1" descr=""/>
          <p:cNvPicPr/>
          <p:nvPr/>
        </p:nvPicPr>
        <p:blipFill>
          <a:blip r:embed="rId1"/>
          <a:stretch/>
        </p:blipFill>
        <p:spPr>
          <a:xfrm>
            <a:off x="809640" y="2162160"/>
            <a:ext cx="7524720" cy="253368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2"/>
          <a:stretch/>
        </p:blipFill>
        <p:spPr>
          <a:xfrm>
            <a:off x="3492360" y="2584440"/>
            <a:ext cx="792360" cy="29052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3"/>
          <a:stretch/>
        </p:blipFill>
        <p:spPr>
          <a:xfrm>
            <a:off x="5076720" y="3006720"/>
            <a:ext cx="792360" cy="29052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4"/>
          <a:stretch/>
        </p:blipFill>
        <p:spPr>
          <a:xfrm>
            <a:off x="2268360" y="3429000"/>
            <a:ext cx="863640" cy="29052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5"/>
          <a:stretch/>
        </p:blipFill>
        <p:spPr>
          <a:xfrm>
            <a:off x="1979640" y="3860640"/>
            <a:ext cx="863640" cy="29052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6"/>
          <a:stretch/>
        </p:blipFill>
        <p:spPr>
          <a:xfrm>
            <a:off x="2771640" y="4292640"/>
            <a:ext cx="72072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3" name="图片 1" descr=""/>
          <p:cNvPicPr/>
          <p:nvPr/>
        </p:nvPicPr>
        <p:blipFill>
          <a:blip r:embed="rId1"/>
          <a:stretch/>
        </p:blipFill>
        <p:spPr>
          <a:xfrm>
            <a:off x="82440" y="1565280"/>
            <a:ext cx="8980560" cy="1609560"/>
          </a:xfrm>
          <a:prstGeom prst="rect">
            <a:avLst/>
          </a:prstGeom>
          <a:ln w="0">
            <a:noFill/>
          </a:ln>
        </p:spPr>
      </p:pic>
      <p:pic>
        <p:nvPicPr>
          <p:cNvPr id="1124" name="图片 2" descr=""/>
          <p:cNvPicPr/>
          <p:nvPr/>
        </p:nvPicPr>
        <p:blipFill>
          <a:blip r:embed="rId2"/>
          <a:stretch/>
        </p:blipFill>
        <p:spPr>
          <a:xfrm>
            <a:off x="82440" y="3174840"/>
            <a:ext cx="6685200" cy="122904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3"/>
          <a:stretch/>
        </p:blipFill>
        <p:spPr>
          <a:xfrm>
            <a:off x="3203640" y="1963800"/>
            <a:ext cx="1081080" cy="29052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4"/>
          <a:stretch/>
        </p:blipFill>
        <p:spPr>
          <a:xfrm>
            <a:off x="3419640" y="2387520"/>
            <a:ext cx="1657080" cy="2905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5"/>
          <a:stretch/>
        </p:blipFill>
        <p:spPr>
          <a:xfrm>
            <a:off x="3132000" y="3160800"/>
            <a:ext cx="1081080" cy="29052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6"/>
          <a:stretch/>
        </p:blipFill>
        <p:spPr>
          <a:xfrm>
            <a:off x="2195640" y="3573360"/>
            <a:ext cx="576000" cy="29052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7"/>
          <a:stretch/>
        </p:blipFill>
        <p:spPr>
          <a:xfrm>
            <a:off x="2771640" y="4005360"/>
            <a:ext cx="86364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图片 1" descr=""/>
          <p:cNvPicPr/>
          <p:nvPr/>
        </p:nvPicPr>
        <p:blipFill>
          <a:blip r:embed="rId1"/>
          <a:stretch/>
        </p:blipFill>
        <p:spPr>
          <a:xfrm>
            <a:off x="552600" y="1081080"/>
            <a:ext cx="8038800" cy="469584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2"/>
          <a:stretch/>
        </p:blipFill>
        <p:spPr>
          <a:xfrm>
            <a:off x="1835280" y="1925640"/>
            <a:ext cx="1944720" cy="2905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3"/>
          <a:stretch/>
        </p:blipFill>
        <p:spPr>
          <a:xfrm>
            <a:off x="2050920" y="2771640"/>
            <a:ext cx="865440" cy="29052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4"/>
          <a:stretch/>
        </p:blipFill>
        <p:spPr>
          <a:xfrm>
            <a:off x="3564000" y="2781360"/>
            <a:ext cx="865080" cy="29052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5"/>
          <a:stretch/>
        </p:blipFill>
        <p:spPr>
          <a:xfrm>
            <a:off x="3708360" y="3625920"/>
            <a:ext cx="2735280" cy="2905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6"/>
          <a:stretch/>
        </p:blipFill>
        <p:spPr>
          <a:xfrm>
            <a:off x="3851280" y="4471920"/>
            <a:ext cx="3816360" cy="29052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7"/>
          <a:stretch/>
        </p:blipFill>
        <p:spPr>
          <a:xfrm>
            <a:off x="2411280" y="5319720"/>
            <a:ext cx="1152720" cy="29052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8"/>
          <a:stretch/>
        </p:blipFill>
        <p:spPr>
          <a:xfrm>
            <a:off x="5216400" y="5319720"/>
            <a:ext cx="115272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47:25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